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Click to move the slide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81C6-C331-466E-935A-A43AA7A76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D670-1327-4EB1-B543-0E843564BDAB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D50D-1D86-4DDD-9952-7487B3EA07EF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420F-1773-4F60-B711-5C09B7016F8A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E019-9497-4AC2-AA84-BC7B74A79DD9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0907-D0F9-4797-83ED-439091FADB3E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2674-8EA5-47F4-83F9-4E28A078DE89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9270-7448-458C-A3B8-6979C45820C6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12ED-5CF7-4CE3-8126-2DFB35DA63ED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0671-8E0B-4501-B573-4290708AA0DF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7CA6-E60A-44FD-904A-3CF05263651A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4FA-CB57-4346-9CFA-9DE7120F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0BC-FB17-4823-9D48-ECD8391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CE7-96CC-4BEA-9233-B5F5A10A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58E-801B-4DBD-B3BA-D518DB94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CEA1-D70F-4E2B-812C-34442C34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0070-3EBE-4D59-97FC-6E356BC4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5773-A853-4BC7-A5DE-70A5899E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A68A-2C10-4863-B970-B83B7C6F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3CBD-13C4-43BB-A3CE-3BCD9293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12E9-3BF5-4789-9AD9-B50AE929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59B7-801C-458B-8967-03AFB937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25A-D151-4DD3-AC56-E96F308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865F-811F-4D0F-BB93-7A482F2F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9344-54C0-41A0-8638-9D9FE6D2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865E-4623-40AF-B8F4-B40AF8E4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D47A-7EA9-4B9E-8FFE-32F368BA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3D51-B1C1-4EED-86FD-5FE49527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5DF-4302-4D31-B257-93099A01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0CF-61E9-46B8-95E1-0945FF5E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BEE-E6FF-4D28-AB57-3FCAFCE2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4EF-A314-4FBC-AF05-C72C52B5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18F-9111-4E14-8671-79D5B3CE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986-06E2-45C7-B98D-602049E5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BA1-C254-4D35-BD1A-2F480BB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 flipH="1" rot="8842200">
            <a:off x="7446960" y="123120"/>
            <a:ext cx="1357200" cy="1622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"/>
          <p:cNvPicPr/>
          <p:nvPr/>
        </p:nvPicPr>
        <p:blipFill>
          <a:blip r:embed="rId3"/>
          <a:stretch/>
        </p:blipFill>
        <p:spPr>
          <a:xfrm rot="11970600">
            <a:off x="7524000" y="1762200"/>
            <a:ext cx="1359000" cy="1620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"/>
          <p:cNvPicPr/>
          <p:nvPr/>
        </p:nvPicPr>
        <p:blipFill>
          <a:blip r:embed="rId4"/>
          <a:stretch/>
        </p:blipFill>
        <p:spPr>
          <a:xfrm flipH="1" rot="9587400">
            <a:off x="7351200" y="3561480"/>
            <a:ext cx="1357560" cy="1622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5"/>
          <a:stretch/>
        </p:blipFill>
        <p:spPr>
          <a:xfrm rot="13374000">
            <a:off x="7502040" y="5157360"/>
            <a:ext cx="1414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1" marL="676080" indent="-259920">
              <a:spcBef>
                <a:spcPts val="799"/>
              </a:spcBef>
              <a:buClr>
                <a:srgbClr val="f77352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2" marL="1040040" indent="-20772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3" marL="1455840" indent="-207720">
              <a:spcBef>
                <a:spcPts val="799"/>
              </a:spcBef>
              <a:buClr>
                <a:srgbClr val="f77352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4" marL="1872000" indent="-207720">
              <a:spcBef>
                <a:spcPts val="799"/>
              </a:spcBef>
              <a:buClr>
                <a:srgbClr val="f77352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5" marL="1872000" indent="-207720">
              <a:spcBef>
                <a:spcPts val="799"/>
              </a:spcBef>
              <a:buClr>
                <a:srgbClr val="3300cc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6" marL="1872000" indent="-207720">
              <a:spcBef>
                <a:spcPts val="799"/>
              </a:spcBef>
              <a:buClr>
                <a:srgbClr val="3300cc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FF61-24A2-4D8D-8D2C-2C1ABCC83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 flipH="1" rot="7633800">
            <a:off x="4264920" y="4238640"/>
            <a:ext cx="2386080" cy="28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 rot="12549600">
            <a:off x="6479640" y="4010760"/>
            <a:ext cx="2381400" cy="284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 flipH="1" rot="9259800">
            <a:off x="684000" y="-360"/>
            <a:ext cx="2381040" cy="28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 rot="12639600">
            <a:off x="3023640" y="-360"/>
            <a:ext cx="2425680" cy="2894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1" marL="698400" indent="-268560">
              <a:spcBef>
                <a:spcPts val="799"/>
              </a:spcBef>
              <a:buClr>
                <a:srgbClr val="f77352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2" marL="1074240" indent="-21456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3" marL="1504080" indent="-214560">
              <a:spcBef>
                <a:spcPts val="799"/>
              </a:spcBef>
              <a:buClr>
                <a:srgbClr val="f77352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4" marL="1933920" indent="-214560">
              <a:spcBef>
                <a:spcPts val="799"/>
              </a:spcBef>
              <a:buClr>
                <a:srgbClr val="f77352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5" marL="1933920" indent="-214560">
              <a:spcBef>
                <a:spcPts val="799"/>
              </a:spcBef>
              <a:buClr>
                <a:srgbClr val="3300cc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6" marL="1933920" indent="-214560">
              <a:spcBef>
                <a:spcPts val="799"/>
              </a:spcBef>
              <a:buClr>
                <a:srgbClr val="3300cc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F753-4A8F-4F53-A311-1203E7522DD0}" type="slidenum">
              <a:rPr b="0" lang="en-US" sz="14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agxedo.com/" TargetMode="External"/><Relationship Id="rId2" Type="http://schemas.openxmlformats.org/officeDocument/2006/relationships/hyperlink" Target="http://www.photovis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5290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3300cd"/>
                </a:solidFill>
                <a:latin typeface="Lucida Sans"/>
              </a:rPr>
              <a:t>Techy T-shirts</a:t>
            </a:r>
            <a:endParaRPr b="0" lang="en-US" sz="72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24000" y="60580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00cc"/>
                </a:solidFill>
                <a:latin typeface="Times New Roman"/>
              </a:rPr>
              <a:t>By Andrea Robertson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00cd"/>
                </a:solidFill>
                <a:latin typeface="Lucida Sans"/>
              </a:rPr>
              <a:t>Ironing 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413000"/>
            <a:ext cx="7956720" cy="33177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00cc"/>
                </a:solidFill>
                <a:latin typeface="Book Antiqua"/>
              </a:rPr>
              <a:t>Follow the transfer packs instructions for best results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00cc"/>
                </a:solidFill>
                <a:latin typeface="Book Antiqua"/>
              </a:rPr>
              <a:t>Be prepared and prepare children for the chance of mistakes eg edges that don’t stick, burns etc 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pic>
        <p:nvPicPr>
          <p:cNvPr id="119" name="Picture 17" descr=""/>
          <p:cNvPicPr/>
          <p:nvPr/>
        </p:nvPicPr>
        <p:blipFill>
          <a:blip r:embed="rId1"/>
          <a:stretch/>
        </p:blipFill>
        <p:spPr>
          <a:xfrm>
            <a:off x="2843280" y="4113360"/>
            <a:ext cx="2484360" cy="24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Slide1.JPG"/>
          <p:cNvPicPr/>
          <p:nvPr/>
        </p:nvPicPr>
        <p:blipFill>
          <a:blip r:embed="rId1"/>
          <a:stretch/>
        </p:blipFill>
        <p:spPr>
          <a:xfrm>
            <a:off x="0" y="72864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00cd"/>
                </a:solidFill>
                <a:latin typeface="Lucida Sans"/>
              </a:rPr>
              <a:t>The Tech Design Process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pic>
        <p:nvPicPr>
          <p:cNvPr id="101" name="Picture 3" descr="Tech cycle Y10.gif"/>
          <p:cNvPicPr/>
          <p:nvPr/>
        </p:nvPicPr>
        <p:blipFill>
          <a:blip r:embed="rId1"/>
          <a:srcRect l="0" t="0" r="2653" b="0"/>
          <a:stretch/>
        </p:blipFill>
        <p:spPr>
          <a:xfrm>
            <a:off x="0" y="1305000"/>
            <a:ext cx="7343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rcRect l="3126" t="11117" r="3126" b="76580"/>
          <a:stretch/>
        </p:blipFill>
        <p:spPr>
          <a:xfrm>
            <a:off x="-71280" y="5769000"/>
            <a:ext cx="9251640" cy="9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rcRect l="4053" t="5039" r="3661" b="15719"/>
          <a:stretch/>
        </p:blipFill>
        <p:spPr>
          <a:xfrm>
            <a:off x="0" y="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rcRect l="3126" t="7672" r="3126" b="63292"/>
          <a:stretch/>
        </p:blipFill>
        <p:spPr>
          <a:xfrm>
            <a:off x="0" y="4437000"/>
            <a:ext cx="914400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rcRect l="3126" t="24409" r="3126" b="14562"/>
          <a:stretch/>
        </p:blipFill>
        <p:spPr>
          <a:xfrm>
            <a:off x="0" y="152280"/>
            <a:ext cx="914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Designing your logo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There are lots of websites that you could use.  For today's session try…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http://cooltext.com/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7352"/>
                </a:solidFill>
                <a:uFillTx/>
                <a:latin typeface="Book Antiqua"/>
                <a:hlinkClick r:id="rId1"/>
              </a:rPr>
              <a:t>http://www.tagxedo.com/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7352"/>
                </a:solidFill>
                <a:uFillTx/>
                <a:latin typeface="Book Antiqua"/>
                <a:hlinkClick r:id="rId2"/>
              </a:rPr>
              <a:t>http://www.photovisi.com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00cd"/>
                </a:solidFill>
                <a:latin typeface="Lucida Sans"/>
              </a:rPr>
              <a:t>Websites for Ideas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6920" y="1550520"/>
            <a:ext cx="6877080" cy="5010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T-shirt Websites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mooo.com.au/shop_mooo/clothing/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chargrilled.co.nz/t-shirts/default.asp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mrvintage.co.nz/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Photos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freedigitalphotos.net/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Quotes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quotationspage.com/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quoteland.com/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Arranging your Design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00cc"/>
                </a:solidFill>
                <a:latin typeface="Book Antiqua"/>
              </a:rPr>
              <a:t>Use PowerPoint to set up your design </a:t>
            </a:r>
            <a:r>
              <a:rPr b="0" lang="en-NZ" sz="1600" spc="-1" strike="noStrike">
                <a:solidFill>
                  <a:srgbClr val="3300cc"/>
                </a:solidFill>
                <a:latin typeface="Book Antiqua"/>
              </a:rPr>
              <a:t>(its easy to reverse text in this programme)</a:t>
            </a:r>
            <a:endParaRPr b="0" lang="en-US" sz="16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00cc"/>
                </a:solidFill>
                <a:latin typeface="Book Antiqua"/>
              </a:rPr>
              <a:t>Reverse any text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00cc"/>
                </a:solidFill>
                <a:latin typeface="Book Antiqua"/>
              </a:rPr>
              <a:t>Print a test page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pic>
        <p:nvPicPr>
          <p:cNvPr id="112" name="Picture 7" descr="Life.jpg"/>
          <p:cNvPicPr/>
          <p:nvPr/>
        </p:nvPicPr>
        <p:blipFill>
          <a:blip r:embed="rId1"/>
          <a:stretch/>
        </p:blipFill>
        <p:spPr>
          <a:xfrm>
            <a:off x="576360" y="4113360"/>
            <a:ext cx="3779640" cy="117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Life.jpg"/>
          <p:cNvPicPr/>
          <p:nvPr/>
        </p:nvPicPr>
        <p:blipFill>
          <a:blip r:embed="rId2"/>
          <a:stretch/>
        </p:blipFill>
        <p:spPr>
          <a:xfrm>
            <a:off x="3743280" y="4976640"/>
            <a:ext cx="3795840" cy="1548000"/>
          </a:xfrm>
          <a:prstGeom prst="rect">
            <a:avLst/>
          </a:prstGeom>
          <a:ln w="0">
            <a:noFill/>
          </a:ln>
        </p:spPr>
      </p:pic>
      <p:cxnSp>
        <p:nvCxnSpPr>
          <p:cNvPr id="114" name="Straight Arrow Connector 10"/>
          <p:cNvCxnSpPr/>
          <p:nvPr/>
        </p:nvCxnSpPr>
        <p:spPr>
          <a:xfrm>
            <a:off x="4500720" y="3068640"/>
            <a:ext cx="1008720" cy="1945440"/>
          </a:xfrm>
          <a:prstGeom prst="straightConnector1">
            <a:avLst/>
          </a:prstGeom>
          <a:ln w="9360">
            <a:solidFill>
              <a:srgbClr val="3300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The Transfer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You can purchase transfers from Harvey Norman, Warehouse Stationary etc 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39480" indent="-339480">
              <a:spcBef>
                <a:spcPts val="451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If buying in bulk I use Trade Me - </a:t>
            </a:r>
            <a:r>
              <a:rPr b="1" lang="en-NZ" sz="1800" spc="-1" strike="noStrike">
                <a:solidFill>
                  <a:srgbClr val="3300cc"/>
                </a:solidFill>
                <a:latin typeface="Book Antiqua"/>
              </a:rPr>
              <a:t>HEAT PRESS INKJET t shirt transfer paper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00cc"/>
                </a:solidFill>
                <a:latin typeface="Book Antiqua"/>
              </a:rPr>
              <a:t>HEATPRESSMEDIA'S A4 for dark/light &amp; white tees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Once you have printed – cut around your design leaving rounded edges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2:45:36Z</dcterms:created>
  <dc:creator>Presentation Magazine</dc:creator>
  <dc:description/>
  <dc:language>en-US</dc:language>
  <cp:lastModifiedBy>roban31p</cp:lastModifiedBy>
  <dcterms:modified xsi:type="dcterms:W3CDTF">2010-09-03T00:16:09Z</dcterms:modified>
  <cp:revision>26</cp:revision>
  <dc:subject/>
  <dc:title>Hands Template</dc:title>
</cp:coreProperties>
</file>